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A36-2D8A-44F2-B6E1-5D1B3D83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DEDC-4DF0-4A20-A9F4-F0B26FAD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612C-744E-4FF3-A0F7-A442EFFA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B95-9359-48FA-A604-7094326B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603D-ED3F-4885-8410-4844D20F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C88-8064-4064-994A-8278512E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C73-E322-4701-98E9-ED8B2E46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C41-DA33-4C97-BE54-97E7C958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A70F-8281-485A-BCAC-E3B50520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E15E-0D0A-4EA9-BB16-B1757106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B3F6-5BA9-41BB-AF14-B6A16FBD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F616-A665-4C17-8498-E5EAB732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1884-9B56-4685-9C7F-0F49CD957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8305920"/>
          </a:xfrm>
          <a:prstGeom prst="rect">
            <a:avLst/>
          </a:prstGeom>
          <a:ln w="0">
            <a:noFill/>
          </a:ln>
        </p:spPr>
      </p:pic>
      <p:sp>
        <p:nvSpPr>
          <p:cNvPr id="42" name="Straight Connector 5"/>
          <p:cNvSpPr/>
          <p:nvPr/>
        </p:nvSpPr>
        <p:spPr>
          <a:xfrm>
            <a:off x="5334120" y="0"/>
            <a:ext cx="0" cy="914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5410080" y="685800"/>
            <a:ext cx="144792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lödmann – Idi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rtenzaun – f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scht – wi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überlegen – lang und hart den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ll –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inst du? = denkst du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nnen – to know a pers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den – sprec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in einziger – not a sing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uert ewig – lasts fore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228600" y="2209680"/>
            <a:ext cx="1295280" cy="22860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3048120" y="2514600"/>
            <a:ext cx="1295280" cy="22860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1143000" y="3048120"/>
            <a:ext cx="1143000" cy="22860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685800" y="3962520"/>
            <a:ext cx="762120" cy="22860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0720" y="4191120"/>
            <a:ext cx="838080" cy="22860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228600" y="4495680"/>
            <a:ext cx="1295280" cy="22860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228600" y="5105520"/>
            <a:ext cx="685800" cy="22860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1371600" y="5105520"/>
            <a:ext cx="685800" cy="22860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3200400" y="6248520"/>
            <a:ext cx="1371600" cy="22860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1905120" y="7924680"/>
            <a:ext cx="1218960" cy="30492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228600"/>
            <a:ext cx="5181480" cy="83170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1295280" y="304920"/>
            <a:ext cx="990720" cy="30456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981080" y="4038480"/>
            <a:ext cx="762120" cy="30492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6172200"/>
            <a:ext cx="914400" cy="22860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4572000"/>
            <a:ext cx="1600200" cy="30492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219320" y="4343400"/>
            <a:ext cx="1295280" cy="22860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7"/>
          <p:cNvSpPr/>
          <p:nvPr/>
        </p:nvSpPr>
        <p:spPr>
          <a:xfrm>
            <a:off x="5334120" y="0"/>
            <a:ext cx="0" cy="914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5410080" y="685800"/>
            <a:ext cx="1447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spricht – spricht ü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nk/Bänke – Stuh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rkwürdig – komisch, interess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 ist mir egal – whate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ärger – trouble (wie in Problem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769608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2"/>
          <p:cNvSpPr/>
          <p:nvPr/>
        </p:nvSpPr>
        <p:spPr>
          <a:xfrm>
            <a:off x="5334120" y="0"/>
            <a:ext cx="0" cy="914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5410080" y="685800"/>
            <a:ext cx="14479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wig - fore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fangs – am Anfa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ärgert – böse w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graben – in die Erde stecken oder grab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weismittel – evid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erarzt – ein Doktor für Ti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tersuchen – to exam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4800600" y="914400"/>
            <a:ext cx="609480" cy="30492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0" y="2438280"/>
            <a:ext cx="914400" cy="30492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4572000" y="3962520"/>
            <a:ext cx="685800" cy="30456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295280" y="4876920"/>
            <a:ext cx="1600200" cy="30456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4343400" y="5791320"/>
            <a:ext cx="914400" cy="22860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2666880" y="6095880"/>
            <a:ext cx="1600200" cy="30492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485604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76320" y="1371600"/>
            <a:ext cx="5616720" cy="21985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914400" y="1447920"/>
            <a:ext cx="3352680" cy="304560"/>
          </a:xfrm>
          <a:prstGeom prst="rect">
            <a:avLst/>
          </a:prstGeom>
          <a:solidFill>
            <a:srgbClr val="ffff00">
              <a:alpha val="2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traight Connector 3"/>
          <p:cNvSpPr/>
          <p:nvPr/>
        </p:nvSpPr>
        <p:spPr>
          <a:xfrm>
            <a:off x="5334120" y="0"/>
            <a:ext cx="0" cy="9144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410080" y="685800"/>
            <a:ext cx="144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scheid sagen – tell for s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248520" cy="500220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0" y="5334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u Kapitel 6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rr Schmidt, der Lehrer, hilft Einstein mit dem Fall.  Wie?  Schreib deine Antwort auf Deutsch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20:05:01Z</dcterms:created>
  <dc:creator>tmsadmin</dc:creator>
  <dc:description/>
  <dc:language>en-US</dc:language>
  <cp:lastModifiedBy>tmsadmin</cp:lastModifiedBy>
  <dcterms:modified xsi:type="dcterms:W3CDTF">2014-05-13T20:24:34Z</dcterms:modified>
  <cp:revision>6</cp:revision>
  <dc:subject/>
  <dc:title>Slide 1</dc:title>
</cp:coreProperties>
</file>